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7B85-A03D-475C-8337-2FA451723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76C0-0EFE-4F23-8593-62C7E919A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AC67-BB08-4603-8DBF-413CE79C9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A400-D572-4BBC-97CA-E344F24FE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850B-9910-4665-8287-010832160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835A-4700-4426-B803-6B0325042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13BD-E215-4E98-AA13-CAC029461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BE42-638A-471A-B6B5-C68412AAC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9A83-729B-4DF0-80F2-5F2859BE1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3FD5-2B9A-4EDE-BA7C-F6272C012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3396-C67F-45F5-B9BA-907CE0A14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4064-8B53-4215-BA56-2E1F4429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6912E-52EA-4B12-9EE0-536CF033A7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00465e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4203436tgMgIzIxnz_ph" descr=""/>
          <p:cNvPicPr/>
          <p:nvPr/>
        </p:nvPicPr>
        <p:blipFill>
          <a:blip r:embed="rId1"/>
          <a:stretch/>
        </p:blipFill>
        <p:spPr>
          <a:xfrm>
            <a:off x="0" y="0"/>
            <a:ext cx="52578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638680" y="0"/>
            <a:ext cx="3276720" cy="10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أنا في المدينةِ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أمشي مكتئباً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في قلبي خيبتي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أنسابُ تائها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وفي آهات الضيقِ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أبحثُ عن الطريق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أنت م كنت السبيلُ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لك قلبي يميل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23894622lnkCImSXrf_ph" descr=""/>
          <p:cNvPicPr/>
          <p:nvPr/>
        </p:nvPicPr>
        <p:blipFill>
          <a:blip r:embed="rId1"/>
          <a:stretch/>
        </p:blipFill>
        <p:spPr>
          <a:xfrm>
            <a:off x="0" y="0"/>
            <a:ext cx="60199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172200" y="380880"/>
            <a:ext cx="2590920" cy="78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أرجوك يا ربي أنظر لحال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أرجوك يا ربي أنا في ضي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تعال يا ربي ضمِّد جراحا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بدمك ربي دم الصدي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38624513QCBBMr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505320" y="228600"/>
            <a:ext cx="5181480" cy="58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وأين بهجتي في عالمٍ غريق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أسمع مناجاتي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ففي قلبي حريق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وأين بسمتي والآمال تغيب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أنت من يدوم أرجوك يا حبيب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23894622lnkCImSXrf_ph" descr=""/>
          <p:cNvPicPr/>
          <p:nvPr/>
        </p:nvPicPr>
        <p:blipFill>
          <a:blip r:embed="rId1"/>
          <a:stretch/>
        </p:blipFill>
        <p:spPr>
          <a:xfrm>
            <a:off x="0" y="0"/>
            <a:ext cx="60199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172200" y="380880"/>
            <a:ext cx="2590920" cy="78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أرجوك يا ربي أنظر لحال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أرجوك يا ربي أنا في ضي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تعال يا ربي ضمِّد جراحا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بدمك ربي دم الصدي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ildelsken" descr=""/>
          <p:cNvPicPr/>
          <p:nvPr/>
        </p:nvPicPr>
        <p:blipFill>
          <a:blip r:embed="rId1"/>
          <a:stretch/>
        </p:blipFill>
        <p:spPr>
          <a:xfrm>
            <a:off x="-1758960" y="0"/>
            <a:ext cx="61786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28600"/>
            <a:ext cx="3504960" cy="76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وأين فرحتي والأطفال جيا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وأين ضحكتي والعالم في ضيا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فبدد ظلمتي بوجهك المني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فأنت النور الحقُّ أرجوك يا قدير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23894622lnkCImSXrf_ph" descr=""/>
          <p:cNvPicPr/>
          <p:nvPr/>
        </p:nvPicPr>
        <p:blipFill>
          <a:blip r:embed="rId1"/>
          <a:stretch/>
        </p:blipFill>
        <p:spPr>
          <a:xfrm>
            <a:off x="0" y="0"/>
            <a:ext cx="601992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172200" y="380880"/>
            <a:ext cx="2590920" cy="78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أرجوك يا ربي أنظر لحال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أرجوك يا ربي أنا في ضي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تعال يا ربي ضمِّد جراحا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بدمك ربي دم الصدي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27731617KWXnreKPiA_th" descr=""/>
          <p:cNvPicPr/>
          <p:nvPr/>
        </p:nvPicPr>
        <p:blipFill>
          <a:blip r:embed="rId1"/>
          <a:stretch/>
        </p:blipFill>
        <p:spPr>
          <a:xfrm>
            <a:off x="-21420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334120" y="0"/>
            <a:ext cx="3352680" cy="100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ff"/>
                </a:solidFill>
                <a:latin typeface="Times New Roman"/>
                <a:cs typeface="Simplified Arabic"/>
              </a:rPr>
              <a:t>رجائي أملي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ff"/>
                </a:solidFill>
                <a:latin typeface="Times New Roman"/>
                <a:cs typeface="Simplified Arabic"/>
              </a:rPr>
              <a:t>في رهبةِ الظلا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ff"/>
                </a:solidFill>
                <a:latin typeface="Times New Roman"/>
                <a:cs typeface="Simplified Arabic"/>
              </a:rPr>
              <a:t>أنت متكلي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ff"/>
                </a:solidFill>
                <a:latin typeface="Times New Roman"/>
                <a:cs typeface="Simplified Arabic"/>
              </a:rPr>
              <a:t>في غمرة الآلا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ff"/>
                </a:solidFill>
                <a:latin typeface="Times New Roman"/>
                <a:cs typeface="Simplified Arabic"/>
              </a:rPr>
              <a:t>وأنت قُدوتي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ff"/>
                </a:solidFill>
                <a:latin typeface="Times New Roman"/>
                <a:cs typeface="Simplified Arabic"/>
              </a:rPr>
              <a:t>في حملك الصلي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ff"/>
                </a:solidFill>
                <a:latin typeface="Times New Roman"/>
                <a:cs typeface="Simplified Arabic"/>
              </a:rPr>
              <a:t>فإليك ذاتي اقبلها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ff"/>
                </a:solidFill>
                <a:latin typeface="Times New Roman"/>
                <a:cs typeface="Simplified Arabic"/>
              </a:rPr>
              <a:t>أرجوك يا حبي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23894622lnkCImSXrf_ph" descr=""/>
          <p:cNvPicPr/>
          <p:nvPr/>
        </p:nvPicPr>
        <p:blipFill>
          <a:blip r:embed="rId1"/>
          <a:stretch/>
        </p:blipFill>
        <p:spPr>
          <a:xfrm>
            <a:off x="0" y="0"/>
            <a:ext cx="601992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172200" y="380880"/>
            <a:ext cx="2590920" cy="78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أرجوك يا ربي أنظر لحال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أرجوك يا ربي أنا في ضي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تعال يا ربي ضمِّد جراحا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بدمك ربي دم الصدي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10:41:19Z</dcterms:created>
  <dc:creator>USER</dc:creator>
  <dc:description/>
  <dc:language>en-US</dc:language>
  <cp:lastModifiedBy>USER</cp:lastModifiedBy>
  <dcterms:modified xsi:type="dcterms:W3CDTF">2002-11-19T10:49:07Z</dcterms:modified>
  <cp:revision>4</cp:revision>
  <dc:subject/>
  <dc:title>PowerPoint Presentation</dc:title>
</cp:coreProperties>
</file>